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77B-0A8F-45A5-BD96-A21C3B3C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608-B33A-446E-9F75-47A01503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DECC2-D675-45DF-BB72-64F33669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6566B-E3BA-431C-9FAE-533BCEA7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520AC-3EE8-4499-AEEE-91F080D2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8DCAA-70C0-439B-B082-06352EF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A68FE-14A5-487F-80E3-BC3E02AA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86C82-EE0F-45CF-91AE-8B420A2E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63159-01A5-4DAA-9F19-B1A7E95E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217EE-4958-4391-BC25-8EF7ECE2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E5637-844E-4359-96E8-CA804B62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893-2531-4577-92F4-402B97B0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6DB-F727-472A-921D-A1BA37D0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9901-7B66-4B15-8075-E25BC4A2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FDC6-5C4D-4420-9812-85FC26DA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B8CF-FF4E-42AA-855B-E4EC6E4C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9843-82C1-4B72-AE0A-FE88D348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664E-562F-40E7-A4FC-54B252E4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1A04-B6CB-4693-AA31-5E618E38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8502-378F-4814-9D4F-E47575AC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E83-79D8-4B95-B1CC-9A726DA6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8F74-94C7-45A0-AD1E-68114FAE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85AE-4782-4DE2-8D63-33B2E506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18E9-53AC-431C-B4D0-AFB392ED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BEF2-9615-4686-BDED-7F4855F6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ADA3-01EE-48FC-A104-E7AB2B93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C2409-3FA6-4957-B684-2E167FF2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C4936-CE71-457B-A8D3-64B1C278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44B88-5091-4313-A425-53299072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099B-3BCF-4FD6-9B40-A7E33056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0917-B676-48E9-BB51-A89FE0A9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DF1B-E606-430B-BBA0-BF9E37AA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0011-90DA-4F28-86AB-04B326F7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C6B59-6397-455E-993D-12AE8E8B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D42E3-76B4-42AD-BBD4-E63DBEB6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40B6-1AE3-4E89-BA01-56CDB67C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669F-5E5A-49A9-B1CB-4D35B773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3D95-864F-45C6-A02E-13215F2D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73D9-24AA-4F50-BAEA-857EB5BB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2B70F-DC69-42B1-A1B4-9C021951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F586-DF1A-481B-B0F4-57B6E832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D334F-489D-4DEF-8A7E-C79198D7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B24-6D11-42F2-B692-4CB85DCA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58831-B5A6-4EE0-99A4-CA1F8F2A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6B79D-0425-44E1-996A-EA158BB6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9964-0B75-427C-A724-B1F333C5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4402-5D70-4295-91A1-D992D277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B325E-7E45-4FE3-B2B6-AA518E8E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C27F6-BEBB-4007-BDC5-48E28A14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F065B-2784-49D7-905A-B2C40FB7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E0925-1418-4ECA-A16B-92DC6484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54F32-DAC2-462F-A08C-E0021940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E65FD-6226-46AA-BB31-05B2E66C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40E-CD04-44C2-BB36-7D57DC37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A55A1-6AA0-48AC-974A-4CBA7FF8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1664A-6FAC-402C-9609-262096A5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156B9-290C-4C6B-943E-C51A7363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E21F2-55B2-4513-A344-F2EC1ECA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8F56B-9DAF-4558-AEA9-155A87E4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907DC-273D-40CD-AC04-9C7D4147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2E53B-9585-4806-9FBD-BD3E4CB9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525DD-3084-4F8B-B0D5-390E6E3B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9AC2D-C4BE-40ED-B6E8-DE897C43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69ECD-E911-40CC-9D70-975BC60C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801-61E1-4AD7-A77D-131E8E63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5FE14-8D19-4112-B17A-37FDF2A8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1453C-6E23-4118-A714-2F7E90E7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24FE7-2405-4B8A-BC8C-E21B475D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3DC44-2C30-4E5C-B60A-87E8BF80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044FC-A0B9-40DB-A83C-5635979F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DD102-3C21-4EFA-8787-86DF643C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76142-69F5-4044-A22A-C26A5775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F9AF5-385F-4DBA-BF01-CFB56894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B8D22-69EA-41D4-96D8-CC66B6AE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0F29C-B9D0-4D14-ADD0-2B327B47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307-155A-4079-8B39-BBAE561A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BF6F0-CC34-4633-8592-70E302DE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36BC3-5DCC-4641-97E5-63D5B440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E140A-58C0-457D-A2DD-A5FA0B79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D67FD-7501-476E-A0F7-EABE5142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E8F5FD-C128-4890-BB54-A5432539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257F9A-B088-4FBE-A24A-369C59E1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6F805C-1C3B-4B23-9369-AB5E44F5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9C650-921B-4A2C-B283-FF7BB8CD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9EED6-CB48-49BC-8CA5-13D77AEA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21142-3A72-4FD0-8BA6-00779E35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B5D-D1E1-445A-9DDA-F4C8B682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51CAC-5384-4E94-B25F-6304BC7A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BFBA7-E379-4841-BA71-014134C2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53183-68A9-4AAE-8B96-E16FAF90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93FC01-F5C7-47C6-B70D-CA141E85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39DD2-1F96-4059-8AD4-BD081C59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9A2A0-67A9-4A8B-98F6-50872930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80C9C-6D34-4557-8BC4-EF83BFC1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477C7-29A3-4B6A-87A4-30DA5B22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D6410-8F94-46BE-8A8C-1F5783FD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111C5-0830-4DEC-9719-81798794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F86-2A87-4F6F-A58F-A3F2A83F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01CA8-C668-43CC-9E65-6FF4D259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C49C1-8A37-439B-BEBC-DEB10CC7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8113F-ED10-4C79-B3E9-869AC3B4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0170D-3388-47C3-B64E-8207F427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92EF-6C59-4B76-954C-E1D79712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29D94-F79D-4E15-9A6D-EFABBD0D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6B21A-5132-4085-837E-0D60AC3C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5381E-91EF-4C3C-9574-62F613A7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EDD5F-12EB-4D73-8532-92E009F6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272D3-821E-4DB2-833F-0D01BECC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2A75-452D-47F5-A99B-CBFE22626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AAC8-B7E9-4632-A742-1B9D131D8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82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1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3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0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31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2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80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2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93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00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5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49AB-D6A4-4D07-BD20-12FE3D7F75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4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5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9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9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4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4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36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BFB9-1397-424A-9873-F112BA8A90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509F-AD26-4610-A69C-CDE3F7B1E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2290-C588-4E83-9C99-59F0D290D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10CC-85A4-42B4-AEA9-04FFE66AE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3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3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7BC1-87C3-47C3-94AE-525148D5B6D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4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4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D7C0-BABE-403E-AE74-8159125267E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image" Target="../media/image31.jpeg"/><Relationship Id="rId17" Type="http://schemas.openxmlformats.org/officeDocument/2006/relationships/image" Target="../media/image32.jpeg"/><Relationship Id="rId18" Type="http://schemas.openxmlformats.org/officeDocument/2006/relationships/image" Target="../media/image33.jpeg"/><Relationship Id="rId19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057400" y="266688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B 2.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1066680" y="304920"/>
            <a:ext cx="69343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something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 1.0 vs.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095880" y="3505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19520" y="60199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 and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91320" y="571500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 organize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685800" y="5105520"/>
            <a:ext cx="8226360" cy="360"/>
          </a:xfrm>
          <a:prstGeom prst="line">
            <a:avLst/>
          </a:prstGeom>
          <a:noFill/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914400" y="2361960"/>
            <a:ext cx="0" cy="2514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160020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219320" y="1294920"/>
            <a:ext cx="0" cy="358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990720" y="83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 flipV="1">
            <a:off x="1600200" y="213372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371600" y="1600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1295280" y="1905120"/>
            <a:ext cx="838440" cy="38088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3276720" y="4800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209680" y="1294920"/>
            <a:ext cx="0" cy="358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981080" y="1066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 flipV="1">
            <a:off x="3048120" y="228564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809880" y="4876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3733920" y="1371240"/>
            <a:ext cx="0" cy="3505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43200" y="1752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505320" y="83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5"/>
          <a:stretch/>
        </p:blipFill>
        <p:spPr>
          <a:xfrm>
            <a:off x="2514600" y="2057400"/>
            <a:ext cx="990720" cy="53352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6"/>
          <a:stretch/>
        </p:blipFill>
        <p:spPr>
          <a:xfrm>
            <a:off x="3124080" y="1066680"/>
            <a:ext cx="1067040" cy="3193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 flipV="1">
            <a:off x="4419720" y="609480"/>
            <a:ext cx="0" cy="4267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114800" y="228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7"/>
          <a:stretch/>
        </p:blipFill>
        <p:spPr>
          <a:xfrm>
            <a:off x="4110120" y="3252960"/>
            <a:ext cx="842760" cy="35208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8"/>
          <a:stretch/>
        </p:blipFill>
        <p:spPr>
          <a:xfrm>
            <a:off x="3962520" y="2362320"/>
            <a:ext cx="990360" cy="4665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9"/>
          <a:stretch/>
        </p:blipFill>
        <p:spPr>
          <a:xfrm>
            <a:off x="3962520" y="533520"/>
            <a:ext cx="1000080" cy="30456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10"/>
          <a:stretch/>
        </p:blipFill>
        <p:spPr>
          <a:xfrm>
            <a:off x="3352680" y="1600200"/>
            <a:ext cx="838440" cy="42876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 flipV="1">
            <a:off x="5257800" y="1600200"/>
            <a:ext cx="0" cy="3276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029200" y="1066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1"/>
          <a:stretch/>
        </p:blipFill>
        <p:spPr>
          <a:xfrm>
            <a:off x="4800600" y="13716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12"/>
          <a:stretch/>
        </p:blipFill>
        <p:spPr>
          <a:xfrm>
            <a:off x="4800600" y="3886200"/>
            <a:ext cx="1143000" cy="49536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13"/>
          <a:stretch/>
        </p:blipFill>
        <p:spPr>
          <a:xfrm>
            <a:off x="1981080" y="2819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 flipV="1">
            <a:off x="6248520" y="3123720"/>
            <a:ext cx="0" cy="1752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019920" y="2743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4"/>
          <a:stretch/>
        </p:blipFill>
        <p:spPr>
          <a:xfrm>
            <a:off x="5791320" y="3048120"/>
            <a:ext cx="990360" cy="45720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 flipV="1">
            <a:off x="7467480" y="213372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238880" y="18288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5"/>
          <a:stretch/>
        </p:blipFill>
        <p:spPr>
          <a:xfrm>
            <a:off x="7086600" y="2133720"/>
            <a:ext cx="990720" cy="45720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 flipV="1">
            <a:off x="7086600" y="1066680"/>
            <a:ext cx="0" cy="3810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81680" y="762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6"/>
          <a:stretch/>
        </p:blipFill>
        <p:spPr>
          <a:xfrm>
            <a:off x="6553080" y="990720"/>
            <a:ext cx="1143000" cy="36180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1676520" y="57150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2.0 encompasses a range of technologies. The most used are the blogs, wikis, podcasts and social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7"/>
          <a:stretch/>
        </p:blipFill>
        <p:spPr>
          <a:xfrm>
            <a:off x="3962520" y="3886200"/>
            <a:ext cx="799920" cy="64764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18"/>
          <a:stretch/>
        </p:blipFill>
        <p:spPr>
          <a:xfrm>
            <a:off x="2666880" y="3048120"/>
            <a:ext cx="685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 flipV="1">
            <a:off x="99072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609588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2193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267080" y="624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464832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371600" y="2666880"/>
            <a:ext cx="4191120" cy="2590920"/>
          </a:xfrm>
          <a:custGeom>
            <a:avLst/>
            <a:gdLst/>
            <a:ahLst/>
            <a:rect l="l" t="t" r="r" b="b"/>
            <a:pathLst>
              <a:path w="3024" h="1792">
                <a:moveTo>
                  <a:pt x="3024" y="96"/>
                </a:moveTo>
                <a:cubicBezTo>
                  <a:pt x="2644" y="48"/>
                  <a:pt x="2264" y="0"/>
                  <a:pt x="1872" y="240"/>
                </a:cubicBezTo>
                <a:cubicBezTo>
                  <a:pt x="1480" y="480"/>
                  <a:pt x="984" y="1280"/>
                  <a:pt x="672" y="1536"/>
                </a:cubicBezTo>
                <a:cubicBezTo>
                  <a:pt x="360" y="1792"/>
                  <a:pt x="112" y="1736"/>
                  <a:pt x="0" y="1776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809880" y="2209680"/>
            <a:ext cx="3886200" cy="2286000"/>
          </a:xfrm>
          <a:custGeom>
            <a:avLst/>
            <a:gdLst/>
            <a:ahLst/>
            <a:rect l="l" t="t" r="r" b="b"/>
            <a:pathLst>
              <a:path w="3024" h="1792">
                <a:moveTo>
                  <a:pt x="3024" y="96"/>
                </a:moveTo>
                <a:cubicBezTo>
                  <a:pt x="2644" y="48"/>
                  <a:pt x="2264" y="0"/>
                  <a:pt x="1872" y="240"/>
                </a:cubicBezTo>
                <a:cubicBezTo>
                  <a:pt x="1480" y="480"/>
                  <a:pt x="984" y="1280"/>
                  <a:pt x="672" y="1536"/>
                </a:cubicBezTo>
                <a:cubicBezTo>
                  <a:pt x="360" y="1792"/>
                  <a:pt x="112" y="1736"/>
                  <a:pt x="0" y="177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44792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029200" y="1523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523880" y="4413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b 2.0 Tools present a vast array of opportunities—for companies that know how to us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562720" y="64008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option of corporate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 flipV="1">
            <a:off x="1295280" y="990360"/>
            <a:ext cx="0" cy="4190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295280" y="5181480"/>
            <a:ext cx="69343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04920" y="4572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Tahoma"/>
              </a:rPr>
              <a:t>World population using web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143000" y="47242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45720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752480" y="5334120"/>
            <a:ext cx="30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190512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09480" y="4343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.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2860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3720" y="5334120"/>
            <a:ext cx="30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6576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505320" y="5334120"/>
            <a:ext cx="24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143000" y="30481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33520" y="2895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9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48006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648320" y="5334120"/>
            <a:ext cx="24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143000" y="21337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57200" y="2057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15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57150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562720" y="5334120"/>
            <a:ext cx="30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143000" y="15238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57200" y="1371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2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905120" y="1308240"/>
            <a:ext cx="4343400" cy="3466800"/>
          </a:xfrm>
          <a:custGeom>
            <a:avLst/>
            <a:gdLst/>
            <a:ahLst/>
            <a:rect l="l" t="t" r="r" b="b"/>
            <a:pathLst>
              <a:path w="2736" h="2184">
                <a:moveTo>
                  <a:pt x="0" y="2152"/>
                </a:moveTo>
                <a:cubicBezTo>
                  <a:pt x="32" y="2168"/>
                  <a:pt x="64" y="2184"/>
                  <a:pt x="240" y="2008"/>
                </a:cubicBezTo>
                <a:cubicBezTo>
                  <a:pt x="416" y="1832"/>
                  <a:pt x="824" y="1336"/>
                  <a:pt x="1056" y="1096"/>
                </a:cubicBezTo>
                <a:cubicBezTo>
                  <a:pt x="1288" y="856"/>
                  <a:pt x="1432" y="736"/>
                  <a:pt x="1632" y="568"/>
                </a:cubicBezTo>
                <a:cubicBezTo>
                  <a:pt x="1832" y="400"/>
                  <a:pt x="2072" y="176"/>
                  <a:pt x="2256" y="88"/>
                </a:cubicBezTo>
                <a:cubicBezTo>
                  <a:pt x="2440" y="0"/>
                  <a:pt x="2656" y="48"/>
                  <a:pt x="2736" y="4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267080" y="2590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495680" y="2514600"/>
            <a:ext cx="914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Yo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RSS 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03848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038480" y="31240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Pod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Fli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73392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3200400"/>
            <a:ext cx="1143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M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Social book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28600" y="6033960"/>
            <a:ext cx="6553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Tahoma"/>
              </a:rPr>
              <a:t>Referenc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Tahoma"/>
              </a:rPr>
              <a:t>History of Web 2.0 and Digital Natives. Retrieved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Tahoma"/>
              </a:rPr>
              <a:t>http://www.xtimeline.com/timeline/History-of-Web-2-0-and-Digital-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6400" spc="-1" strike="noStrike">
                <a:solidFill>
                  <a:srgbClr val="e5ffff"/>
                </a:solidFill>
                <a:latin typeface="Tahoma"/>
              </a:rPr>
              <a:t>WEB 2.0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5"/>
          <p:cNvSpPr/>
          <p:nvPr/>
        </p:nvSpPr>
        <p:spPr>
          <a:xfrm rot="20241600">
            <a:off x="1066320" y="2437920"/>
            <a:ext cx="6853320" cy="2803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7"/>
          <p:cNvSpPr/>
          <p:nvPr/>
        </p:nvSpPr>
        <p:spPr>
          <a:xfrm>
            <a:off x="3581280" y="1752480"/>
            <a:ext cx="1673280" cy="1654200"/>
          </a:xfrm>
          <a:prstGeom prst="ellipse">
            <a:avLst/>
          </a:prstGeom>
          <a:gradFill rotWithShape="0">
            <a:gsLst>
              <a:gs pos="0">
                <a:srgbClr val="c1c1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5"/>
          <p:cNvGrpSpPr/>
          <p:nvPr/>
        </p:nvGrpSpPr>
        <p:grpSpPr>
          <a:xfrm>
            <a:off x="990720" y="2057400"/>
            <a:ext cx="7086600" cy="4114800"/>
            <a:chOff x="990720" y="2057400"/>
            <a:chExt cx="7086600" cy="4114800"/>
          </a:xfrm>
        </p:grpSpPr>
        <p:sp>
          <p:nvSpPr>
            <p:cNvPr id="869" name="Oval 10"/>
            <p:cNvSpPr/>
            <p:nvPr/>
          </p:nvSpPr>
          <p:spPr>
            <a:xfrm>
              <a:off x="1063440" y="3141720"/>
              <a:ext cx="1587240" cy="1471680"/>
            </a:xfrm>
            <a:prstGeom prst="ellipse">
              <a:avLst/>
            </a:prstGeom>
            <a:gradFill rotWithShape="0">
              <a:gsLst>
                <a:gs pos="0">
                  <a:srgbClr val="bfd1e7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3"/>
            <p:cNvSpPr/>
            <p:nvPr/>
          </p:nvSpPr>
          <p:spPr>
            <a:xfrm>
              <a:off x="2509920" y="4700520"/>
              <a:ext cx="1577880" cy="1471680"/>
            </a:xfrm>
            <a:prstGeom prst="ellipse">
              <a:avLst/>
            </a:prstGeom>
            <a:gradFill rotWithShape="0">
              <a:gsLst>
                <a:gs pos="0">
                  <a:srgbClr val="f0d4d4"/>
                </a:gs>
                <a:gs pos="100000">
                  <a:srgbClr val="33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6"/>
            <p:cNvSpPr/>
            <p:nvPr/>
          </p:nvSpPr>
          <p:spPr>
            <a:xfrm>
              <a:off x="4822920" y="3751200"/>
              <a:ext cx="1587240" cy="1471680"/>
            </a:xfrm>
            <a:prstGeom prst="ellipse">
              <a:avLst/>
            </a:prstGeom>
            <a:gradFill rotWithShape="0">
              <a:gsLst>
                <a:gs pos="0">
                  <a:srgbClr val="e5ffff"/>
                </a:gs>
                <a:gs pos="100000">
                  <a:srgbClr val="1531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9"/>
            <p:cNvSpPr/>
            <p:nvPr/>
          </p:nvSpPr>
          <p:spPr>
            <a:xfrm>
              <a:off x="6413760" y="2057400"/>
              <a:ext cx="1501560" cy="1471680"/>
            </a:xfrm>
            <a:prstGeom prst="ellipse">
              <a:avLst/>
            </a:prstGeom>
            <a:gradFill rotWithShape="0">
              <a:gsLst>
                <a:gs pos="0">
                  <a:srgbClr val="e0c1e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22"/>
            <p:cNvSpPr/>
            <p:nvPr/>
          </p:nvSpPr>
          <p:spPr>
            <a:xfrm>
              <a:off x="3581640" y="2350800"/>
              <a:ext cx="166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Interac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26"/>
            <p:cNvSpPr/>
            <p:nvPr/>
          </p:nvSpPr>
          <p:spPr>
            <a:xfrm>
              <a:off x="3014640" y="3548160"/>
              <a:ext cx="2459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icrosoft Sans Serif"/>
                </a:rPr>
                <a:t>Web 2.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32"/>
            <p:cNvSpPr/>
            <p:nvPr/>
          </p:nvSpPr>
          <p:spPr>
            <a:xfrm>
              <a:off x="6413760" y="2395440"/>
              <a:ext cx="166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w Cen MT Condensed Extra Bold"/>
                </a:rPr>
                <a:t>Colective Intellig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33"/>
            <p:cNvSpPr/>
            <p:nvPr/>
          </p:nvSpPr>
          <p:spPr>
            <a:xfrm>
              <a:off x="4822920" y="4362480"/>
              <a:ext cx="166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w Cen MT Condensed Extra Bold"/>
                </a:rPr>
                <a:t>Collabor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34"/>
            <p:cNvSpPr/>
            <p:nvPr/>
          </p:nvSpPr>
          <p:spPr>
            <a:xfrm>
              <a:off x="2509920" y="531036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So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35"/>
            <p:cNvSpPr/>
            <p:nvPr/>
          </p:nvSpPr>
          <p:spPr>
            <a:xfrm>
              <a:off x="990720" y="368460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Dynam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28600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066680" y="35053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57868"/>
                </a:solidFill>
                <a:latin typeface="Arial Black"/>
              </a:rPr>
              <a:t>DO YOU KNOW HOW THE WEB HAS EVOLV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5105520" y="1828800"/>
            <a:ext cx="3733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first the Web was just rea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0,000 sites visited for 45 million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429000" cy="39625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762120" y="99072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sers only had access to reading for what he had to wait for each new publica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were few people creating cont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095880" y="4724280"/>
            <a:ext cx="142884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523880" y="457200"/>
            <a:ext cx="6172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EB 1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867280" cy="381024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3276720" y="4191120"/>
            <a:ext cx="259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ople connecting onto the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685800" y="4419720"/>
            <a:ext cx="7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600200" y="68580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formation generated only by publishers and webmast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352680" cy="259056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2133720" y="5334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 bor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304920" y="380880"/>
            <a:ext cx="586728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ext Ste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FROM WEB 1.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304920" y="4648320"/>
            <a:ext cx="3429000" cy="113328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5867280" y="5181480"/>
            <a:ext cx="1714680" cy="12193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685800" y="2438280"/>
            <a:ext cx="3124080" cy="1981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3"/>
          <a:stretch/>
        </p:blipFill>
        <p:spPr>
          <a:xfrm>
            <a:off x="4495680" y="2362320"/>
            <a:ext cx="400068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7a2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952880" y="1752480"/>
            <a:ext cx="373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erm Web 2.0 was coined by Tim O'Reilly in 2004 to refer to a second generation in the history of community-based Web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1295280" y="380880"/>
            <a:ext cx="2895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special range of services such as social networks, blogs, wikis or the folksonomies that encourage flexible collaboration and exchange of information between 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2662200" cy="10666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2985840" cy="8856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3"/>
          <a:stretch/>
        </p:blipFill>
        <p:spPr>
          <a:xfrm>
            <a:off x="2895480" y="46483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4"/>
          <a:stretch/>
        </p:blipFill>
        <p:spPr>
          <a:xfrm>
            <a:off x="6477120" y="4876920"/>
            <a:ext cx="19047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09:37Z</dcterms:created>
  <dc:creator>Edwin Sanchez</dc:creator>
  <dc:description/>
  <dc:language>en-US</dc:language>
  <cp:lastModifiedBy>Edwin Sanchez</cp:lastModifiedBy>
  <dcterms:modified xsi:type="dcterms:W3CDTF">2010-04-10T23:12:18Z</dcterms:modified>
  <cp:revision>6</cp:revision>
  <dc:subject/>
  <dc:title>Slide 1</dc:title>
</cp:coreProperties>
</file>